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EFB9-CF3D-4162-88DD-B2BB6E149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14669-FD66-4190-83F3-C1826A073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6D76-F3A8-4B16-ACF9-05A3974AD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CC99-BFA8-4251-8FFE-011F1EC5E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D7D8-07E1-4312-95C2-C4657591E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A288-AE1D-4AD0-8A6E-71F88E60BA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C529-BF80-492A-9AE5-BCB451B23F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1548-0756-4834-8C6C-AD99F00325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BFC1-412D-4F8D-86D4-5AB167C317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4D32-50B5-4A44-8497-335CF8D98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E018-0F56-4FEF-A20C-67D0CD56A6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D348-78D4-47A4-AD4B-105CCF23DB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F052-012E-4BF2-8F6A-CB04E3569F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8232-96C9-4586-A308-C7F41AC4F8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0DDE-C969-45F2-A0B1-A113F5B263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6EDB-B3C4-4B6F-BB42-0893F94448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8486-EF51-4D46-8CED-DA8D12042A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E54C-2DDA-40A5-A5FB-3954F4137F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6C9-96F4-417B-B139-0A1F651A91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E16-515A-48C0-8C3E-6C6256884D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A61-6600-4EE4-99F0-7CA0BF89E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249D-8C27-4444-B1A8-2A321DCBA6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F2E-98E5-42D8-B0F8-149632FF43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594-357B-483B-AB48-269E72157E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32B-2088-42BC-9881-15E86FE6217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113-3F6A-4D58-AE71-842662C96A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BF1-09C1-4E85-86C6-750663292F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C1B-29C4-4C49-80C2-A3E49B61CE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780-60D3-4C67-9180-C48B9BBA7A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A82-C286-4FFC-B2E2-F0AD69362D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307-49D5-41CB-82CF-814F3298E8B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9AD4D-6EE2-4502-BF6E-1BB7D2AF4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ED41-6CD7-47B7-AC1E-5C059D15DE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BE0BF-BE99-4F97-AF77-85FE1BFEED5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C28D0-E19A-4431-A9FE-24082BAC61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C5007-F863-42B9-97AE-31A32725DC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08D1E-A575-4F1B-8F02-D1EC79FF6E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7315C-3F16-47CB-965D-04E3B9D74EA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A1326-9AEB-4D60-AE56-3B170A13C69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12428-69FF-4ECB-89D5-E2B2491F68E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A0285-F7DA-4D7C-9598-2A1E6E94003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5A280-E6F1-4353-96A8-EB149CDE70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7FB09-09DD-450E-8208-5BD94C36B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BF67-9548-4D0A-9E2D-0C0678EB9C6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E0189-856C-42C6-B86C-754E3EECF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B408-5515-4EDC-A30F-BA442937A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DB7E-A908-4277-912D-4A5D7F357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6BCC-5E46-45ED-A6BD-677DF016E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4A93-E141-4EE9-8AA0-35900BD7C36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9D1C-0B35-4B5B-9CF7-E654F71C86F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286-A145-4619-B83A-7AFA145AE24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525A-51DB-49E0-82C0-BD4116B2D1C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50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498132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6"/>
          <p:cNvSpPr/>
          <p:nvPr/>
        </p:nvSpPr>
        <p:spPr>
          <a:xfrm>
            <a:off x="609480" y="1447920"/>
            <a:ext cx="221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ape styles include preset outline, fill, and effects for the selected char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987480" y="212760"/>
            <a:ext cx="8351640" cy="804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5867280" cy="482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2" name="TextBox 4"/>
          <p:cNvSpPr/>
          <p:nvPr/>
        </p:nvSpPr>
        <p:spPr>
          <a:xfrm>
            <a:off x="4572000" y="30225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Selected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7"/>
          <p:cNvCxnSpPr/>
          <p:nvPr/>
        </p:nvCxnSpPr>
        <p:spPr>
          <a:xfrm>
            <a:off x="5638680" y="3363840"/>
            <a:ext cx="153360" cy="158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Straight Arrow Connector 9"/>
          <p:cNvCxnSpPr/>
          <p:nvPr/>
        </p:nvCxnSpPr>
        <p:spPr>
          <a:xfrm>
            <a:off x="5105160" y="3363480"/>
            <a:ext cx="108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609480" y="1447920"/>
            <a:ext cx="268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a chart object is selected, you can open its Format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987480" y="212760"/>
            <a:ext cx="8351640" cy="804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3487680" y="1447920"/>
            <a:ext cx="5275440" cy="48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TextBox 6"/>
          <p:cNvSpPr/>
          <p:nvPr/>
        </p:nvSpPr>
        <p:spPr>
          <a:xfrm>
            <a:off x="1676520" y="472428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rbel"/>
              </a:rPr>
              <a:t>Vertical axis is se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8"/>
          <p:cNvCxnSpPr/>
          <p:nvPr/>
        </p:nvCxnSpPr>
        <p:spPr>
          <a:xfrm flipV="1">
            <a:off x="3124080" y="1980720"/>
            <a:ext cx="534240" cy="2743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Straight Arrow Connector 11"/>
          <p:cNvCxnSpPr/>
          <p:nvPr/>
        </p:nvCxnSpPr>
        <p:spPr>
          <a:xfrm>
            <a:off x="3809880" y="4876560"/>
            <a:ext cx="4579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987480" y="212760"/>
            <a:ext cx="8351640" cy="804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" descr=""/>
          <p:cNvPicPr/>
          <p:nvPr/>
        </p:nvPicPr>
        <p:blipFill>
          <a:blip r:embed="rId2"/>
          <a:srcRect l="12844" t="0" r="0" b="0"/>
          <a:stretch/>
        </p:blipFill>
        <p:spPr>
          <a:xfrm>
            <a:off x="3051000" y="1676520"/>
            <a:ext cx="596268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 Box 6"/>
          <p:cNvSpPr/>
          <p:nvPr/>
        </p:nvSpPr>
        <p:spPr>
          <a:xfrm>
            <a:off x="533520" y="16192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hart objects can have fill, including grad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914400" y="212760"/>
            <a:ext cx="8352000" cy="8049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685800" y="1523880"/>
            <a:ext cx="25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 addition to the Chart Tools command tabs, you can use the Mini toolbar to format text within a char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5118120" cy="468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29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03720" cy="1511280"/>
          </a:xfrm>
          <a:prstGeom prst="rect">
            <a:avLst/>
          </a:prstGeom>
          <a:ln w="0">
            <a:noFill/>
          </a:ln>
        </p:spPr>
      </p:pic>
      <p:sp>
        <p:nvSpPr>
          <p:cNvPr id="29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CE7-844D-4566-920E-D982D883EFC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8650440" cy="8049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447920" y="274284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a chart aid in analysis of the dat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data should be used to build a meaningful cha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05280" indent="-305280">
              <a:spcBef>
                <a:spcPts val="799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type of chart is best for that dat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3520" y="12952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deciding whether to use a chart for your data, consid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chart shee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a chart that is located on its own sheet in the workboo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chart objec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ppears on the same worksheet as the data. It may be called an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embedded chart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85392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23880" y="220968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umn charts show how values change over a period of time or make comparisons among items. They can be prepared with 3-D effects or stacked columns. Categories are on the horizontal axis (x), and values are on the vertical axis (y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"/>
          <p:cNvPicPr/>
          <p:nvPr/>
        </p:nvPicPr>
        <p:blipFill>
          <a:blip r:embed="rId2"/>
          <a:stretch/>
        </p:blipFill>
        <p:spPr>
          <a:xfrm>
            <a:off x="762120" y="1566720"/>
            <a:ext cx="914400" cy="8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1676520" y="206856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ne charts show trends in data over a period of time. They emphasize the rate of change. Lines can be stacked and can show markers, a symbol that indicates a single value. 3-D effects are avail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914400" y="1719360"/>
            <a:ext cx="8730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1882800" y="1981080"/>
            <a:ext cx="66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ie charts show one data series and compare the sizes of each part of a whole. Pie charts should have seven or fewer data points (slices) to be easy to interpret. A pie chart can use 3-D effects and can show exploded sl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13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8514-0915-41B6-B784-D4CB1DAA1B0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47720" y="159696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15" name="Rectangle 6"/>
          <p:cNvSpPr/>
          <p:nvPr/>
        </p:nvSpPr>
        <p:spPr>
          <a:xfrm>
            <a:off x="1662120" y="2054160"/>
            <a:ext cx="7162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r charts illustrate comparisons among items or show individual figures at a specific time. Categories are on the vertical axis (y). Values are on the horizontal axis (x). The shape can also be a cone, a cylinder, or a pyram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762120" y="157464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18" name="Rectangle 4"/>
          <p:cNvSpPr/>
          <p:nvPr/>
        </p:nvSpPr>
        <p:spPr>
          <a:xfrm>
            <a:off x="1795320" y="2031840"/>
            <a:ext cx="6815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a charts look like colored-in line charts. They show the rate of change and emphasize the magnitude of the change. 3-D effects are avail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4"/>
          <p:cNvSpPr/>
          <p:nvPr/>
        </p:nvSpPr>
        <p:spPr>
          <a:xfrm>
            <a:off x="1865160" y="2100240"/>
            <a:ext cx="68979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4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atter charts show relationships between two values, such as money spent on additional advertising and increased sales dollars. Scatter charts do not have a category; both axes show numbers/value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762120" y="164304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22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057040" y="1905120"/>
            <a:ext cx="6705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ock charts are often called “high-low-close charts.” They use three series of data in high, low, close ord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rface charts illustrate optimum combinations of two sets of data. They show two or more series on a surfac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ughnut charts compare the sizes of parts and show the relative proportion of the whole. A doughnut chart can show multiple data series in concentric ring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8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25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2209680" y="1905120"/>
            <a:ext cx="6477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ubble charts compare sets of three values. They are like scatter charts with the third value displayed as the size of the bub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adar charts show the frequency of data relative to a center point and to other data points. There is a separate axis for each category, and each axis extends from the center. Lines connect the values in a se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91440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28" name="Rectangle 2" descr=""/>
          <p:cNvPicPr/>
          <p:nvPr/>
        </p:nvPicPr>
        <p:blipFill>
          <a:blip r:embed="rId2"/>
          <a:stretch/>
        </p:blipFill>
        <p:spPr>
          <a:xfrm>
            <a:off x="884160" y="212760"/>
            <a:ext cx="833292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3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3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6E44-CF3D-44ED-A484-49BF861031B3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data source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 a chart are the worksheet rows and columns used to build the cha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anges made to values or labels within the original data source range are automatically reflected in the char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88184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7"/>
          <p:cNvSpPr/>
          <p:nvPr/>
        </p:nvSpPr>
        <p:spPr>
          <a:xfrm>
            <a:off x="685800" y="1295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ata point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s one value (with its label) in the data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4570560" y="1846440"/>
            <a:ext cx="4116240" cy="43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7" name="Oval 3"/>
          <p:cNvSpPr/>
          <p:nvPr/>
        </p:nvSpPr>
        <p:spPr>
          <a:xfrm>
            <a:off x="4800600" y="3429000"/>
            <a:ext cx="20574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1981080" y="3684600"/>
            <a:ext cx="258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he Exhibition Sales label and slice will be added to the pie cha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598320" y="133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y keying another column of values, you can add a second data series to a c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2362320" y="2286000"/>
            <a:ext cx="6473880" cy="374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TextBox 3"/>
          <p:cNvSpPr/>
          <p:nvPr/>
        </p:nvSpPr>
        <p:spPr>
          <a:xfrm>
            <a:off x="5715000" y="2971800"/>
            <a:ext cx="32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rbel"/>
              </a:rPr>
              <a:t>A second set of columns will be added to this chart for the Kallie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6"/>
          <p:cNvSpPr/>
          <p:nvPr/>
        </p:nvSpPr>
        <p:spPr>
          <a:xfrm>
            <a:off x="533520" y="1219320"/>
            <a:ext cx="83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the chart is on a separate sheet, add another column by using the Select Data Source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606564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1685880" y="2133720"/>
            <a:ext cx="447840" cy="447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2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864040" cy="1511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90DB-75D2-4DB7-B8E7-F9B49ADD642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48" name="Title 5" descr=""/>
          <p:cNvPicPr/>
          <p:nvPr/>
        </p:nvPicPr>
        <p:blipFill>
          <a:blip r:embed="rId2"/>
          <a:stretch/>
        </p:blipFill>
        <p:spPr>
          <a:xfrm>
            <a:off x="2951280" y="2749680"/>
            <a:ext cx="6497640" cy="208440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466A-3F7A-4EDB-89AF-E6BEBC2E5F8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006560" y="-139680"/>
            <a:ext cx="7991280" cy="132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1219320" y="1981080"/>
            <a:ext cx="701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can use an image, a gradient, or a texture for the fill of a chart shape (the bar, the column, the pie slic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using these types of fills, it is best to use a 2-D chart sty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533520" y="14479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image can be stretched, scaled, or both to fit the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631692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457200" y="1676520"/>
            <a:ext cx="2354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gradient is a blend of colors. There are preset gradients, and you can build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2719440" y="1676520"/>
            <a:ext cx="618804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629400" cy="49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6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03720" cy="151128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A143-8CBC-42F1-A3EA-2BA2E3B4530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1726200" y="1214280"/>
            <a:ext cx="60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combination chart with two char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590840" y="1752480"/>
            <a:ext cx="6333840" cy="46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725400" y="1214280"/>
            <a:ext cx="84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combination chart with two chart types and a secondar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" descr=""/>
          <p:cNvPicPr/>
          <p:nvPr/>
        </p:nvPicPr>
        <p:blipFill>
          <a:blip r:embed="rId2"/>
          <a:stretch/>
        </p:blipFill>
        <p:spPr>
          <a:xfrm>
            <a:off x="1676520" y="1733400"/>
            <a:ext cx="6402240" cy="466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370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1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137D-9D70-466F-AB16-983622DC8B41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9440" y="1676520"/>
            <a:ext cx="826596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Text Box 6"/>
          <p:cNvSpPr/>
          <p:nvPr/>
        </p:nvSpPr>
        <p:spPr>
          <a:xfrm>
            <a:off x="1574640" y="4819680"/>
            <a:ext cx="65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sparklin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a mini-chart in its own cell next to the data. Sparklines are objects and can be formatted from the Sparkline Tools Design t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047080" cy="11588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" descr=""/>
          <p:cNvPicPr/>
          <p:nvPr/>
        </p:nvPicPr>
        <p:blipFill>
          <a:blip r:embed="rId2"/>
          <a:stretch/>
        </p:blipFill>
        <p:spPr>
          <a:xfrm>
            <a:off x="2959200" y="1523880"/>
            <a:ext cx="6032520" cy="46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TextBox 2"/>
          <p:cNvSpPr/>
          <p:nvPr/>
        </p:nvSpPr>
        <p:spPr>
          <a:xfrm>
            <a:off x="533520" y="155412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har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s a visual representation of workshee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294920" y="17524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ts may be objects in a worksheet, or they may be separate chart 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is linked to the data that it plots. When that data is edited, the chart reflects the chang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rt includes many individual elements that can be formatted and edit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670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three Charts Tools command tabs: Design, Layout, and Forma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election and Visibility pane aids in selecting and layering objects, such as charts, in a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chart layout specifies where various elements are positioned. The layout can be changed at any tim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10666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ve a chart object by selecting it and dragging it. Size a chart object by dragging one of its selection hand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fter a chart is created, you can add or delete data points and/or an entire data se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various labels that can be placed on a chart including a title, data labels, axes labels, a legend, or a data t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218960" y="175212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though charts typically use solid color for columns, slices, and bars, you can use images, textures, or gradients to add visual appeal to your char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preset gradients with multiple color stops. You can edit them or create your own gradients by adding and removing color stop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23520" y="17521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bination charts have at least two series and use different chart types for each seri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me combination charts use a secondary axis, because the values for data being plotted are disproportiona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arklines are charts within cells. They can use lines or columns to graph a data range on the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990720" y="1828800"/>
            <a:ext cx="7619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elected chart is surrounded by a rounded-corner fr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lection handles appear as three or four dots arranged in a line or triangle shape on the frame b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ource data for the chart is outlined in the worksheet when the chart is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9" descr="214-Fig07-01.png"/>
          <p:cNvPicPr/>
          <p:nvPr/>
        </p:nvPicPr>
        <p:blipFill>
          <a:blip r:embed="rId1"/>
          <a:stretch/>
        </p:blipFill>
        <p:spPr>
          <a:xfrm>
            <a:off x="1474920" y="1320840"/>
            <a:ext cx="670536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Rectangle 2" descr=""/>
          <p:cNvPicPr/>
          <p:nvPr/>
        </p:nvPicPr>
        <p:blipFill>
          <a:blip r:embed="rId2"/>
          <a:stretch/>
        </p:blipFill>
        <p:spPr>
          <a:xfrm>
            <a:off x="871560" y="-648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4963680" y="480384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Selected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4154400" y="256536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Plot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 flipH="1">
            <a:off x="4730760" y="500364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"/>
          <p:cNvSpPr/>
          <p:nvPr/>
        </p:nvSpPr>
        <p:spPr>
          <a:xfrm flipH="1">
            <a:off x="4187880" y="2847960"/>
            <a:ext cx="5335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 flipH="1">
            <a:off x="2209680" y="2793960"/>
            <a:ext cx="1981440" cy="53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548760" y="36576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rbel"/>
              </a:rPr>
              <a:t>Selection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3581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hart layout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termines what objects are included in the chart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2" name="Picture 3" descr="214-Fig07-02.png"/>
          <p:cNvPicPr/>
          <p:nvPr/>
        </p:nvPicPr>
        <p:blipFill>
          <a:blip r:embed="rId2"/>
          <a:srcRect l="0" t="0" r="36487" b="0"/>
          <a:stretch/>
        </p:blipFill>
        <p:spPr>
          <a:xfrm>
            <a:off x="4495680" y="1384200"/>
            <a:ext cx="4191120" cy="494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987480" y="-648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2057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Chart styl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ts the color and effect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2793960" y="161460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944800" cy="615960"/>
          </a:xfrm>
          <a:prstGeom prst="rect">
            <a:avLst/>
          </a:prstGeom>
          <a:ln w="0">
            <a:noFill/>
          </a:ln>
        </p:spPr>
      </p:pic>
      <p:pic>
        <p:nvPicPr>
          <p:cNvPr id="277" name="Title 5" descr=""/>
          <p:cNvPicPr/>
          <p:nvPr/>
        </p:nvPicPr>
        <p:blipFill>
          <a:blip r:embed="rId2"/>
          <a:stretch/>
        </p:blipFill>
        <p:spPr>
          <a:xfrm>
            <a:off x="2951280" y="2749680"/>
            <a:ext cx="6387840" cy="198108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5E3C-7624-424C-8C80-DDCCD9318BAF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8:44Z</dcterms:modified>
  <cp:revision>77</cp:revision>
  <dc:subject/>
  <dc:title>Microsoft office</dc:title>
</cp:coreProperties>
</file>